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1F8-81E9-49A5-8CFD-3C04CF2A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216-043E-4795-B8C8-14AE199C39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81E0-5AA8-476B-8350-A9C922825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BD3E-B0CD-4526-BDAB-B8602FDE0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F0E1-013C-44D5-AD41-1D253AE2B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81B4-F09B-4D87-BD79-8CD029226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04F3-597D-4297-8453-6556232D1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DCDF-B52A-4A14-8A14-674BF11BB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3FC7-0820-4642-8430-51F681482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6A88-6138-4A93-8FD4-964D10380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8A43-AFD0-4B24-878D-379F8D6F7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35D8-7992-4FE9-8C28-11CB58ADD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B8C1-4760-438C-8A74-333B6E14E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4C14-83C8-4B74-8AD9-C43896CE4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04D4-07A1-4A04-85C3-2E8A5BC9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/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291-E88D-400F-9CE4-99DE7AE5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5840" y="609120"/>
            <a:ext cx="7313760" cy="838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434340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2133720"/>
            <a:ext cx="7313760" cy="14475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reating Scatterplo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19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741E-6B06-4747-94CA-B9852886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7" descr="C:\BCT 689\PowerPoint\spss gifs\scatterplot\menu3b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0" name="AutoShape 4">
            <a:hlinkClick r:id="" action="ppaction://hlinkshowjump?jump=nextslide"/>
          </p:cNvPr>
          <p:cNvSpPr/>
          <p:nvPr/>
        </p:nvSpPr>
        <p:spPr>
          <a:xfrm>
            <a:off x="685800" y="2819520"/>
            <a:ext cx="1447920" cy="304560"/>
          </a:xfrm>
          <a:custGeom>
            <a:avLst/>
            <a:gdLst>
              <a:gd name="textAreaLeft" fmla="*/ 19440 w 1447920"/>
              <a:gd name="textAreaRight" fmla="*/ 1428480 w 1447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02594" h="21600">
                <a:moveTo>
                  <a:pt x="0" y="0"/>
                </a:moveTo>
                <a:lnTo>
                  <a:pt x="102594" y="0"/>
                </a:lnTo>
                <a:lnTo>
                  <a:pt x="102594" y="21600"/>
                </a:lnTo>
                <a:lnTo>
                  <a:pt x="0" y="21600"/>
                </a:lnTo>
                <a:close/>
              </a:path>
              <a:path fill="lightenLess" w="102594" h="21600">
                <a:moveTo>
                  <a:pt x="0" y="0"/>
                </a:moveTo>
                <a:lnTo>
                  <a:pt x="102594" y="0"/>
                </a:lnTo>
                <a:lnTo>
                  <a:pt x="101194" y="1400"/>
                </a:lnTo>
                <a:lnTo>
                  <a:pt x="1400" y="1400"/>
                </a:lnTo>
                <a:close/>
              </a:path>
              <a:path fill="darken" w="102594" h="21600">
                <a:moveTo>
                  <a:pt x="102594" y="0"/>
                </a:moveTo>
                <a:lnTo>
                  <a:pt x="102594" y="21600"/>
                </a:lnTo>
                <a:lnTo>
                  <a:pt x="101194" y="20200"/>
                </a:lnTo>
                <a:lnTo>
                  <a:pt x="101194" y="1400"/>
                </a:lnTo>
                <a:close/>
              </a:path>
              <a:path fill="darkenLess" w="102594" h="21600">
                <a:moveTo>
                  <a:pt x="10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94" y="20200"/>
                </a:lnTo>
                <a:close/>
              </a:path>
              <a:path fill="lighten" w="10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027760" y="2284560"/>
            <a:ext cx="320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 TOTAL - 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5BF-0649-472D-B480-1B02B0A3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9" descr="C:\BCT 689\PowerPoint\spss gifs\scatterplot\plot4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9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62120" y="2819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72200" y="46022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7760" y="2284560"/>
            <a:ext cx="320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 TOTAL - 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773C-6954-41DF-9B9C-88E07312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10" descr="C:\BCT 689\PowerPoint\spss gifs\scatterplot\plot5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70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027760" y="22845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AutoShape 7">
            <a:hlinkClick r:id="" action="ppaction://hlinkshowjump?jump=nextslide"/>
          </p:cNvPr>
          <p:cNvSpPr/>
          <p:nvPr/>
        </p:nvSpPr>
        <p:spPr>
          <a:xfrm>
            <a:off x="2209680" y="3073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B43-AB0E-429F-9111-FE780969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18" descr="C:\BCT 689\PowerPoint\spss gifs\scatterplot\plot6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97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774720" y="317484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027760" y="2284560"/>
            <a:ext cx="3581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few variables down  the list, poin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602A-94E8-469D-BDD7-87DD68E0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19" descr="C:\BCT 689\PowerPoint\spss gifs\scatterplot\plot7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7220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AutoShape 12">
            <a:hlinkClick r:id="" action="ppaction://hlinkshowjump?jump=nextslide"/>
          </p:cNvPr>
          <p:cNvSpPr/>
          <p:nvPr/>
        </p:nvSpPr>
        <p:spPr>
          <a:xfrm>
            <a:off x="609480" y="3187800"/>
            <a:ext cx="1371600" cy="241200"/>
          </a:xfrm>
          <a:custGeom>
            <a:avLst/>
            <a:gdLst>
              <a:gd name="textAreaLeft" fmla="*/ 15480 w 1371600"/>
              <a:gd name="textAreaRight" fmla="*/ 1356120 w 13716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22679" h="21600">
                <a:moveTo>
                  <a:pt x="0" y="0"/>
                </a:moveTo>
                <a:lnTo>
                  <a:pt x="122679" y="0"/>
                </a:lnTo>
                <a:lnTo>
                  <a:pt x="122679" y="21600"/>
                </a:lnTo>
                <a:lnTo>
                  <a:pt x="0" y="21600"/>
                </a:lnTo>
                <a:close/>
              </a:path>
              <a:path fill="lightenLess" w="122679" h="21600">
                <a:moveTo>
                  <a:pt x="0" y="0"/>
                </a:moveTo>
                <a:lnTo>
                  <a:pt x="122679" y="0"/>
                </a:lnTo>
                <a:lnTo>
                  <a:pt x="121279" y="1400"/>
                </a:lnTo>
                <a:lnTo>
                  <a:pt x="1400" y="1400"/>
                </a:lnTo>
                <a:close/>
              </a:path>
              <a:path fill="darken" w="122679" h="21600">
                <a:moveTo>
                  <a:pt x="122679" y="0"/>
                </a:moveTo>
                <a:lnTo>
                  <a:pt x="122679" y="21600"/>
                </a:lnTo>
                <a:lnTo>
                  <a:pt x="121279" y="20200"/>
                </a:lnTo>
                <a:lnTo>
                  <a:pt x="121279" y="1400"/>
                </a:lnTo>
                <a:close/>
              </a:path>
              <a:path fill="darkenLess" w="122679" h="21600">
                <a:moveTo>
                  <a:pt x="1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279" y="20200"/>
                </a:lnTo>
                <a:close/>
              </a:path>
              <a:path fill="lighten" w="1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027760" y="2284560"/>
            <a:ext cx="3660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few variables down  the list, poin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072-7B5A-41F1-8993-1277C63C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10" descr="C:\BCT 689\PowerPoint\spss gifs\scatterplot\plot8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76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02776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Z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nextslide"/>
          </p:cNvPr>
          <p:cNvSpPr/>
          <p:nvPr/>
        </p:nvSpPr>
        <p:spPr>
          <a:xfrm>
            <a:off x="2209680" y="3505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21E-C50E-4556-98E5-6356864A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11" descr="C:\BCT 689\PowerPoint\spss gifs\scatterplot\plot9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AutoShape 7">
            <a:hlinkClick r:id="" action="ppaction://hlinkshowjump?jump=nextslide"/>
          </p:cNvPr>
          <p:cNvSpPr/>
          <p:nvPr/>
        </p:nvSpPr>
        <p:spPr>
          <a:xfrm>
            <a:off x="1828800" y="2438280"/>
            <a:ext cx="228600" cy="2514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14600"/>
              <a:gd name="textAreaBottom" fmla="*/ 2499840 h 2514600"/>
            </a:gdLst>
            <a:ahLst/>
            <a:rect l="textAreaLeft" t="textAreaTop" r="textAreaRight" b="textAreaBottom"/>
            <a:pathLst>
              <a:path w="21600" h="237260">
                <a:moveTo>
                  <a:pt x="0" y="0"/>
                </a:moveTo>
                <a:lnTo>
                  <a:pt x="21600" y="0"/>
                </a:lnTo>
                <a:lnTo>
                  <a:pt x="21600" y="237260"/>
                </a:lnTo>
                <a:lnTo>
                  <a:pt x="0" y="237260"/>
                </a:lnTo>
                <a:close/>
              </a:path>
              <a:path fill="lightenLess" w="21600" h="2372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60">
                <a:moveTo>
                  <a:pt x="21600" y="0"/>
                </a:moveTo>
                <a:lnTo>
                  <a:pt x="21600" y="237260"/>
                </a:lnTo>
                <a:lnTo>
                  <a:pt x="20200" y="235860"/>
                </a:lnTo>
                <a:lnTo>
                  <a:pt x="20200" y="1400"/>
                </a:lnTo>
                <a:close/>
              </a:path>
              <a:path fill="darkenLess" w="21600" h="237260">
                <a:moveTo>
                  <a:pt x="21600" y="237260"/>
                </a:moveTo>
                <a:lnTo>
                  <a:pt x="0" y="237260"/>
                </a:lnTo>
                <a:lnTo>
                  <a:pt x="1400" y="235860"/>
                </a:lnTo>
                <a:lnTo>
                  <a:pt x="20200" y="235860"/>
                </a:lnTo>
                <a:close/>
              </a:path>
              <a:path fill="lighten" w="21600" h="237260">
                <a:moveTo>
                  <a:pt x="0" y="2372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8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548B-ACEA-427B-9EC5-AD24E711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11" descr="C:\BCT 689\PowerPoint\spss gifs\scatterplot\plot10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4" name="AutoShape 8">
            <a:hlinkClick r:id="" action="ppaction://hlinkshowjump?jump=nextslide"/>
          </p:cNvPr>
          <p:cNvSpPr/>
          <p:nvPr/>
        </p:nvSpPr>
        <p:spPr>
          <a:xfrm>
            <a:off x="685800" y="36576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FC4-D829-462D-8F3F-51BA8DD60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7" descr="C:\BCT 689\PowerPoint\spss gifs\scatterplot\plot11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7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19920" y="4906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685800" y="36576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06F-B26B-4E50-B37D-0A67D221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Picture 11" descr="C:\BCT 689\PowerPoint\spss gifs\scatterplot\plot12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49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7" name="AutoShape 7">
            <a:hlinkClick r:id="" action="ppaction://hlinkshowjump?jump=nextslide"/>
          </p:cNvPr>
          <p:cNvSpPr/>
          <p:nvPr/>
        </p:nvSpPr>
        <p:spPr>
          <a:xfrm>
            <a:off x="220968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02776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Y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2C9F-91EA-4E78-82DC-994516E8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40"/>
          <p:cNvSpPr/>
          <p:nvPr/>
        </p:nvSpPr>
        <p:spPr>
          <a:xfrm>
            <a:off x="914400" y="24192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 scatterplot may help you to understand how well linear regression  fits your data. You may find that a quadratic equation would be more appropriate than a linear on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43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9F9-1757-4C19-BB73-D0CDBF7D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11" descr="C:\BCT 689\PowerPoint\spss gifs\scatterplot\plot13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27760" y="2284560"/>
            <a:ext cx="37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ton to produce the scatterplo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4114800" y="2438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5CD-DBB4-491C-BCAC-685BEBD6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23572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tcum: Undergraduate GPA (Total Cumulativ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mtot1: MCAT Total 1992-present, most rec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mle2: USMLE Step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A0C-69C0-425F-A598-CD5CC655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" name="Picture 7" descr="C:\BCT 689\PowerPoint\spss gifs\scatterplot\menu1.gif"/>
          <p:cNvPicPr/>
          <p:nvPr/>
        </p:nvPicPr>
        <p:blipFill>
          <a:blip r:embed="rId1"/>
          <a:stretch/>
        </p:blipFill>
        <p:spPr>
          <a:xfrm>
            <a:off x="4572000" y="2284560"/>
            <a:ext cx="2558880" cy="191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274176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AutoShape 4">
            <a:hlinkClick r:id="" action="ppaction://hlinkshowjump?jump=nextslide"/>
          </p:cNvPr>
          <p:cNvSpPr/>
          <p:nvPr/>
        </p:nvSpPr>
        <p:spPr>
          <a:xfrm>
            <a:off x="5181480" y="22860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BB8-B07A-411F-842B-6DE08D32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7" name="Picture 7" descr="C:\BCT 689\PowerPoint\spss gifs\scatterplot\menu2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2286000"/>
            <a:ext cx="2558880" cy="3463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2120" y="2741760"/>
            <a:ext cx="3504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at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nextslide"/>
          </p:cNvPr>
          <p:cNvSpPr/>
          <p:nvPr/>
        </p:nvSpPr>
        <p:spPr>
          <a:xfrm>
            <a:off x="5410080" y="54100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1E94-8B79-4568-BE38-8C5BCC84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" name="Picture 7" descr="C:\BCT 689\PowerPoint\spss gifs\scatterplot\menu3.gif"/>
          <p:cNvPicPr/>
          <p:nvPr/>
        </p:nvPicPr>
        <p:blipFill>
          <a:blip r:embed="rId1"/>
          <a:srcRect l="0" t="0" r="3514" b="0"/>
          <a:stretch/>
        </p:blipFill>
        <p:spPr>
          <a:xfrm>
            <a:off x="4572000" y="2284560"/>
            <a:ext cx="2558880" cy="352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2120" y="2741760"/>
            <a:ext cx="3504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at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5257800" y="5562720"/>
            <a:ext cx="1447920" cy="228600"/>
          </a:xfrm>
          <a:custGeom>
            <a:avLst/>
            <a:gdLst>
              <a:gd name="textAreaLeft" fmla="*/ 14760 w 1447920"/>
              <a:gd name="textAreaRight" fmla="*/ 1433160 w 1447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630" h="21600">
                <a:moveTo>
                  <a:pt x="0" y="0"/>
                </a:moveTo>
                <a:lnTo>
                  <a:pt x="136630" y="0"/>
                </a:lnTo>
                <a:lnTo>
                  <a:pt x="136630" y="21600"/>
                </a:lnTo>
                <a:lnTo>
                  <a:pt x="0" y="21600"/>
                </a:lnTo>
                <a:close/>
              </a:path>
              <a:path fill="lightenLess" w="136630" h="21600">
                <a:moveTo>
                  <a:pt x="0" y="0"/>
                </a:moveTo>
                <a:lnTo>
                  <a:pt x="136630" y="0"/>
                </a:lnTo>
                <a:lnTo>
                  <a:pt x="135230" y="1400"/>
                </a:lnTo>
                <a:lnTo>
                  <a:pt x="1400" y="1400"/>
                </a:lnTo>
                <a:close/>
              </a:path>
              <a:path fill="darken" w="136630" h="21600">
                <a:moveTo>
                  <a:pt x="136630" y="0"/>
                </a:moveTo>
                <a:lnTo>
                  <a:pt x="136630" y="21600"/>
                </a:lnTo>
                <a:lnTo>
                  <a:pt x="135230" y="20200"/>
                </a:lnTo>
                <a:lnTo>
                  <a:pt x="135230" y="1400"/>
                </a:lnTo>
                <a:close/>
              </a:path>
              <a:path fill="darkenLess" w="136630" h="21600">
                <a:moveTo>
                  <a:pt x="13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30" y="20200"/>
                </a:lnTo>
                <a:close/>
              </a:path>
              <a:path fill="lighten" w="13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00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AF0-67AC-497D-80C6-1CB4CC7C9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Picture 8" descr="C:\BCT 689\PowerPoint\spss gifs\scatterplot\plot1.gif"/>
          <p:cNvPicPr/>
          <p:nvPr/>
        </p:nvPicPr>
        <p:blipFill>
          <a:blip r:embed="rId1"/>
          <a:stretch/>
        </p:blipFill>
        <p:spPr>
          <a:xfrm>
            <a:off x="730080" y="2741760"/>
            <a:ext cx="3162600" cy="1552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the Type of Scatterplot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0" y="228600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demonstrates a plot of 3 continuous variables, so first click the button for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3-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1955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707-67C9-4C43-837A-9E6BF5D1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6" descr="C:\BCT 689\PowerPoint\spss gifs\scatterplot\plot2.gif"/>
          <p:cNvPicPr/>
          <p:nvPr/>
        </p:nvPicPr>
        <p:blipFill>
          <a:blip r:embed="rId1"/>
          <a:stretch/>
        </p:blipFill>
        <p:spPr>
          <a:xfrm>
            <a:off x="730080" y="2741760"/>
            <a:ext cx="3162600" cy="1552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the Type of Scatterplot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3048120" y="3048120"/>
            <a:ext cx="761760" cy="30456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0" y="2286000"/>
            <a:ext cx="4191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demonstrates a plot of 3 continuous variables, so first click the button for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3-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click the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5D5-FCBB-40E6-B211-85E1F736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icture 18" descr="C:\BCT 689\PowerPoint\spss gifs\scatterplot\plot3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716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1828800" y="251460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027760" y="228456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scatterplot</cp:keywords>
  <dc:language>en-US</dc:language>
  <cp:lastModifiedBy>Windows User</cp:lastModifiedBy>
  <dcterms:modified xsi:type="dcterms:W3CDTF">2011-12-05T18:44:12Z</dcterms:modified>
  <cp:revision>166</cp:revision>
  <dc:subject>Scatterplots</dc:subject>
  <dc:title>SPSS Scatterplot Tutorial</dc:title>
</cp:coreProperties>
</file>